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4E2-B047-4D0F-B3F2-794F930D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66C-218B-4E55-B9C8-49E04E9D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763-FEBB-47E5-93E8-C0C4C2EF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EB2-474A-4704-909E-2CF07A1F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7FD-C59A-4A26-AA14-6BEA8EE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BD9-1FD1-47C9-8B5F-DEA2B29F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DE3-F378-4839-9A68-C6F0FEEC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6AF-36DD-4D93-A546-227F717C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823-6F70-443B-A452-6BD456E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94B-0096-4F51-82A6-9B2DB87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DF6-3826-4B99-9176-07DE4DF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B7A-A31D-497C-BA3B-03197C3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D501-CED4-4243-8612-41EAAABB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eve.mills@aims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 121 – College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– 25% of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Home Str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s 7 and 8 will feature promin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:  Pre-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6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score will count as on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.1 – A.6 in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.7 - A.9, A.11, and F.1 – F.4 in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Takes available on February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ups on February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- 10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- 8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- 7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 - 6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 - 59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, January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e-Tes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usy ton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, January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e-Te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his test Tuesday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, January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ast Day to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day, Februar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es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ther dates of import, refer to Syllabus or Course Ou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up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the worst test (twice) is our reme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.  Prior notice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ll on quiz, and you won’t have to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ate homework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riteria on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s for all the assign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urning it in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tn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requirements will be illustrated by sample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raphing Calculators on Tests/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haring Calculators on Tests/Quiz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ng Calculators OK on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show your work,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m off befor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:  Emergency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-home portion of Tes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chosen tests will be assessed by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is by and for the college as a 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y assessment will not affect your gr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ssment of the take-home will count 30% of your Test 4 gr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538200"/>
          <a:ext cx="8458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8200"/>
                    <a:ext cx="8458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 121 – College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G11, CRN 4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M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9-6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ve.mills@aims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TV 692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equations and inequalities, functions and their graphs, exponential and logarithmic functions, linear and non-linear systems, graphing of the conic sections, introduction to sequences and series, permutations and combinations, the binomial theorem, theory of equations and an introduction to matrices and determinants.  4 credit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requis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MAT 106 with a ‘C’ or better, ACT Math score greater than or equal to 19, or assessment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livan and Sulliva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ege Algebra.  Concepts through Furncio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earson/Prentice-Hall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7, ISBN 0-13-187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verage –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Quiz Average – 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/Homework Average – 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Exam –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– 50% of overall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 through Test 3 – Drop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4 through Test 6 – Drop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ter segment will count 2/3 of Te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se segment will count 1/3 of Test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Quizzes – 12.5% of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to 420 Points.  Roughly 570 points up for gr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-Note, Closed-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5-10 minutes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e l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-in-the-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give the new material a once-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abu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– 12.5% of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to 420 Points.  Roughly 570 points up for gr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otes, No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5-10 minutes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lass-time to master the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-typ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2:41:01Z</dcterms:created>
  <dc:creator>Harry S. Mills</dc:creator>
  <dc:description/>
  <dc:language>en-US</dc:language>
  <cp:lastModifiedBy>Harry S. Mills</cp:lastModifiedBy>
  <dcterms:modified xsi:type="dcterms:W3CDTF">2008-01-14T00:00:34Z</dcterms:modified>
  <cp:revision>5</cp:revision>
  <dc:subject/>
  <dc:title>MAT 121 – College Algebra</dc:title>
</cp:coreProperties>
</file>